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840-61E0-4869-9AAD-51F86F38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5C09-6792-42DA-9CDF-69D0D1F62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483A-9D29-4AD8-9A40-B74E79B0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E5F5-7751-47EF-9A93-47F8E588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68EB1-DF5F-40F4-8E25-5A206BA4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3010-B632-4294-B2F4-9CF4FAA6B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F05F-DE3B-4232-8FD7-E99357CE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48DD-688C-4DCF-8F32-422A01ED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3C5D-ABCB-4A01-8059-3CC94D66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BF0A-ED2F-4E5C-AE71-3125E2EE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18D0-EED0-4345-975E-A31A2A1D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0A76-7C47-4920-A9FD-5C82DF97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1C7E9-16C2-47B8-885D-4038808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DF88-CF43-49E8-A779-919D93B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4784-23E8-463F-B814-36E30FCA9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5184-AF27-4997-8F0E-2FCFA0821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4ABA7-47FC-4286-A11F-E457C7847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A84-78CF-49E2-B373-6B3E5160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AA7C-B5E5-4F63-9CCD-1C5456D8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23B-1EA6-4269-B02A-5244D64CB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B02-3368-4852-91A6-7664C5CF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E18A-A716-4D17-BC0F-2C1299D2D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1F5F-BEFF-4D4B-A860-C805C19B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3409-BEAF-4AA1-A541-D662884B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b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22073-1BDE-488F-A4B8-6CBCF84E8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61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C016-80A1-42D1-A82F-174FF21BCB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acificbowl.com/images/happy-face.gif&amp;imgrefurl=http://www.pacificbowl.com/ourstaff.html&amp;h=380&amp;w=380&amp;sz=18&amp;hl=en&amp;start=2&amp;um=1&amp;tbnid=_7A6XmYjhj8k8M:&amp;tbnh=123&amp;tbnw=123&amp;prev=/images?q=happy+face&amp;gbv=2&amp;um=1&amp;hl=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illamette.edu/dept/facilities/images/Enterprise%2520minivan.jpg&amp;imgrefurl=http://www.willamette.edu/dept/facilities/motorpool/index.html&amp;h=480&amp;w=640&amp;sz=33&amp;hl=en&amp;start=17&amp;tbnid=g5E3v3eFen641M:&amp;tbnh=103&amp;tbnw=137&amp;prev=/images?q=minivan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izmodo.com/assets/resources/2006/07/seat_cooler.jpg&amp;imgrefurl=http://gizmodo.com/gadgets/gadgets/smarthome-seat-cooler-blessed-summertime-relief-190908.php&amp;h=520&amp;w=520&amp;sz=88&amp;hl=en&amp;start=12&amp;tbnid=Mnmdp5nlGRMuKM:&amp;tbnh=131&amp;tbnw=131&amp;prev=/images?q=seat&amp;gbv=2&amp;hl=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ur-picks.com/wp-content/uploads/2007/07/do-not-touch.gif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xrx.net/Images/Weightlifting/WeightliftingShoes.jpg&amp;imgrefurl=http://www.exrx.net/WeightTraining/Weightlifting/WeightliftingShoes.html&amp;h=483&amp;w=407&amp;sz=22&amp;hl=en&amp;start=4&amp;um=1&amp;tbnid=He8Wt1DfVWAP5M:&amp;tbnh=129&amp;tbnw=109&amp;prev=/images?q=shoes&amp;gbv=2&amp;um=1&amp;hl=e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www.germes-online.com/direct/dbimage/50300160/Angora_Blend_Socks.jpg&amp;imgrefurl=http://www.germes-online.com/catalog/69/227/329802/angora_blend_socks.html&amp;h=360&amp;w=360&amp;sz=26&amp;hl=en&amp;start=6&amp;um=1&amp;tbnid=s4HwXIn-4EoraM:&amp;tbnh=121&amp;tbnw=121&amp;prev=/images?q=socks&amp;gbv=2&amp;um=1&amp;hl=en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utoadviceoffl.com/blog/seatbelt.jpg&amp;imgrefurl=http://www.autoadviceoffl.com/blog/&amp;h=248&amp;w=345&amp;sz=9&amp;hl=en&amp;start=4&amp;um=1&amp;tbnid=fbOmvqZaEYdt0M:&amp;tbnh=86&amp;tbnw=120&amp;prev=/images?q=seatbelt&amp;gbv=2&amp;um=1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etsgomobile.org/images/news/parrot/driver-headset.jpg&amp;imgrefurl=http://www.letsgomobile.org/en/2146/driver-headset/&amp;h=313&amp;w=430&amp;sz=94&amp;hl=en&amp;start=1&amp;um=1&amp;tbnid=x-i8Wo_3pLZR8M:&amp;tbnh=92&amp;tbnw=126&amp;prev=/images?q=driver&amp;gbv=2&amp;um=1&amp;hl=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illamette.edu/dept/facilities/images/Enterprise%2520minivan.jpg&amp;imgrefurl=http://www.willamette.edu/dept/facilities/motorpool/index.html&amp;h=480&amp;w=640&amp;sz=33&amp;hl=en&amp;start=17&amp;tbnid=g5E3v3eFen641M:&amp;tbnh=103&amp;tbnw=137&amp;prev=/images?q=minivan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Mary’s Trip to School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7" descr="The sign at East Franklin"/>
          <p:cNvPicPr/>
          <p:nvPr/>
        </p:nvPicPr>
        <p:blipFill>
          <a:blip r:embed="rId1"/>
          <a:stretch/>
        </p:blipFill>
        <p:spPr>
          <a:xfrm>
            <a:off x="3276720" y="3581280"/>
            <a:ext cx="24382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’s fun to come to school…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5" descr="happy-fa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895480"/>
            <a:ext cx="35053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U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Mary has to follow the rules in order to arrive at school safe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schoolhouse"/>
          <p:cNvPicPr/>
          <p:nvPr/>
        </p:nvPicPr>
        <p:blipFill>
          <a:blip r:embed="rId1"/>
          <a:stretch/>
        </p:blipFill>
        <p:spPr>
          <a:xfrm>
            <a:off x="2362320" y="3048120"/>
            <a:ext cx="396216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ery school day, Mary rides in a van to her school at East Franklin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Enterprise%2520miniv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32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There are rules for Mary to follow when riding in the van.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Van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stays in her se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5" descr="seat_cool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438280"/>
            <a:ext cx="19051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 Mary keeps her hands to herself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do-not-touch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90920" y="2590920"/>
            <a:ext cx="31240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keeps her shoes and socks on her fee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5" descr="WeightliftingSho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895480"/>
            <a:ext cx="1905120" cy="2057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Angora_Blend_Sock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52880" y="3124080"/>
            <a:ext cx="19908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wears her seatbelt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seatbel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895480"/>
            <a:ext cx="37339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y does not distract the van driv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driver-heads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2666880"/>
            <a:ext cx="457200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y stays in the van until Miss Margaret or another teacher comes to get h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Enterprise%2520miniv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81080" y="3200400"/>
            <a:ext cx="441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7:38:31Z</dcterms:created>
  <dc:creator>rlesako</dc:creator>
  <dc:description/>
  <dc:language>en-US</dc:language>
  <cp:lastModifiedBy>Kristin Szewczyk</cp:lastModifiedBy>
  <dcterms:modified xsi:type="dcterms:W3CDTF">2008-07-10T09:14:38Z</dcterms:modified>
  <cp:revision>4</cp:revision>
  <dc:subject/>
  <dc:title>Abby’s Trip to School</dc:title>
</cp:coreProperties>
</file>